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10.png" ContentType="image/png"/>
  <Override PartName="/ppt/media/image1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061E-0447-4248-A363-D03C3D3C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A0E4-96F6-44FE-BA8D-A237D485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57B5-CEA2-4B2E-A4F7-E8E6A6CA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F19-6C0B-4EBF-849F-5036AB34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961-0BBC-4944-928F-F1C6A55F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9D48-3DE8-4268-A2E6-782DFC70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23FA-2914-463F-A0D2-00E9B565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EB1-8AB0-40E9-A285-1F58D2D3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0C12-4E67-4FDF-AEA8-6E976027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7B8-6A7A-4DF3-A776-D7611770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58E-19C7-4563-A11A-795E55E1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9B3A-9D42-48F4-8A80-FDE69EC1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5CB3-1F69-4446-A0E6-F5F3461B4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33"/>
                </a:solidFill>
                <a:latin typeface="Arial"/>
              </a:rPr>
              <a:t>Figurative Langu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Figuring it Ou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img.jogtheweb.com/users_avatars/avatarTNn6VozfZizn"/>
          <p:cNvPicPr/>
          <p:nvPr/>
        </p:nvPicPr>
        <p:blipFill>
          <a:blip r:embed="rId1"/>
          <a:stretch/>
        </p:blipFill>
        <p:spPr>
          <a:xfrm>
            <a:off x="2895480" y="2666880"/>
            <a:ext cx="3257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Idi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ying that isn’t meant to be taken literall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“mean” what it 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e a stick in the mu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the apple of my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n ace up my sle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4.bp.blogspot.com/_ghI2knp4txs/TG34tPH82oI/AAAAAAAAMAA/g7wfnxB7Llw/s1600/stick_in_the_mud.png"/>
          <p:cNvPicPr/>
          <p:nvPr/>
        </p:nvPicPr>
        <p:blipFill>
          <a:blip r:embed="rId1"/>
          <a:stretch/>
        </p:blipFill>
        <p:spPr>
          <a:xfrm>
            <a:off x="6400800" y="2286000"/>
            <a:ext cx="2133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3c6"/>
                </a:solidFill>
                <a:uFillTx/>
                <a:latin typeface="Arial"/>
              </a:rPr>
              <a:t>P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52280" y="990720"/>
            <a:ext cx="609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m of “word play” in which words have a double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ondered why the baseball was getting bigger and then it hi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reading a book about anti-gravity.  It’s impossible to put i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going to look for my missing watch, but I didn’t have th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http://treebeard31.files.wordpress.com/2009/06/pun2.jpg"/>
          <p:cNvPicPr/>
          <p:nvPr/>
        </p:nvPicPr>
        <p:blipFill>
          <a:blip r:embed="rId1"/>
          <a:stretch/>
        </p:blipFill>
        <p:spPr>
          <a:xfrm>
            <a:off x="6248520" y="2209680"/>
            <a:ext cx="26845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030a0"/>
                </a:solidFill>
                <a:uFillTx/>
                <a:latin typeface="Arial"/>
              </a:rPr>
              <a:t>Proverb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gurative saying in which a bit of “wisdom” is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pple a day keeps the doctor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arly bird catches the w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www.alleba.com/blog/wp-content/photos/bird_worm.jpg"/>
          <p:cNvPicPr/>
          <p:nvPr/>
        </p:nvPicPr>
        <p:blipFill>
          <a:blip r:embed="rId1"/>
          <a:stretch/>
        </p:blipFill>
        <p:spPr>
          <a:xfrm>
            <a:off x="2895480" y="3962520"/>
            <a:ext cx="33530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000"/>
                </a:solidFill>
                <a:uFillTx/>
                <a:latin typeface="Arial"/>
              </a:rPr>
              <a:t>Oxymo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wo words are put together that contradict each other.  “Opposit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bo Shri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ty Ug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zer B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www.seefooddiet.com/JUMBO-SHRIMP.jpg"/>
          <p:cNvPicPr/>
          <p:nvPr/>
        </p:nvPicPr>
        <p:blipFill>
          <a:blip r:embed="rId1"/>
          <a:stretch/>
        </p:blipFill>
        <p:spPr>
          <a:xfrm>
            <a:off x="4267080" y="2743200"/>
            <a:ext cx="36007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a separate sheet of pap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put an example of figurative language on the 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write whether it is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i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p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b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un, proverb, idiom, onomatopoeia, oxymoron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stat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your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rew a line as straight as an a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http://www.imageafrica.net/Pages/imageafrica/images/ChokweBowArrow.jpg"/>
          <p:cNvPicPr/>
          <p:nvPr/>
        </p:nvPicPr>
        <p:blipFill>
          <a:blip r:embed="rId1"/>
          <a:stretch/>
        </p:blipFill>
        <p:spPr>
          <a:xfrm>
            <a:off x="2971800" y="3200400"/>
            <a:ext cx="3333600" cy="250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is a kingdom and all who learn are kings and que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http://s9.thisnext.com/media/largest_dimension/146F19F4.jpg"/>
          <p:cNvPicPr/>
          <p:nvPr/>
        </p:nvPicPr>
        <p:blipFill>
          <a:blip r:embed="rId1"/>
          <a:stretch/>
        </p:blipFill>
        <p:spPr>
          <a:xfrm>
            <a:off x="3048120" y="3276720"/>
            <a:ext cx="3143160" cy="31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see you for a seco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81000" y="-693720"/>
            <a:ext cx="1923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81000" y="-693720"/>
            <a:ext cx="1923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81000" y="-876240"/>
            <a:ext cx="2438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81000" y="-876240"/>
            <a:ext cx="2438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http://www.theranch.org/uploads/pics/r21M4100147.jpg"/>
          <p:cNvPicPr/>
          <p:nvPr/>
        </p:nvPicPr>
        <p:blipFill>
          <a:blip r:embed="rId1"/>
          <a:stretch/>
        </p:blipFill>
        <p:spPr>
          <a:xfrm>
            <a:off x="2895480" y="3276720"/>
            <a:ext cx="345456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n was beating down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http://www.clipartpal.com/_thumbs/pd/weather/angry_sun.png"/>
          <p:cNvPicPr/>
          <p:nvPr/>
        </p:nvPicPr>
        <p:blipFill>
          <a:blip r:embed="rId1"/>
          <a:stretch/>
        </p:blipFill>
        <p:spPr>
          <a:xfrm>
            <a:off x="3505320" y="3200400"/>
            <a:ext cx="2209680" cy="22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lag wags like a fishhook there in the s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http://www.jasonlove.com/cartoons/00704-funny-cartoons-fish-hook.gif"/>
          <p:cNvPicPr/>
          <p:nvPr/>
        </p:nvPicPr>
        <p:blipFill>
          <a:blip r:embed="rId1"/>
          <a:stretch/>
        </p:blipFill>
        <p:spPr>
          <a:xfrm>
            <a:off x="3048120" y="2895480"/>
            <a:ext cx="2857320" cy="32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Figurative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Literal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Langu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iterall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ds function exactly a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 i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aught the foo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gurativel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gure out what it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ve got your back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 d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gur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http://rlv.zcache.com/ive_got_your_back_mouspad_mousepad-p144115660927151305trak_400.jpg"/>
          <p:cNvPicPr/>
          <p:nvPr/>
        </p:nvPicPr>
        <p:blipFill>
          <a:blip r:embed="rId1"/>
          <a:stretch/>
        </p:blipFill>
        <p:spPr>
          <a:xfrm>
            <a:off x="5638680" y="4267080"/>
            <a:ext cx="22100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'd rather take bath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man-eating shark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wrestle a l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ne in the dark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 spinach and liver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 ten porcupine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tackle the homework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assig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http://www.mainstreamtopics.com/wp-content/uploads/2009/01/funny-cat-shark.jpg"/>
          <p:cNvPicPr/>
          <p:nvPr/>
        </p:nvPicPr>
        <p:blipFill>
          <a:blip r:embed="rId1"/>
          <a:stretch/>
        </p:blipFill>
        <p:spPr>
          <a:xfrm>
            <a:off x="5638680" y="2362320"/>
            <a:ext cx="3137040" cy="23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venous and savag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its lo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ar journey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rth Wind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earch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ood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http://rtv6blogs.com/rtv6_stormteam6/files/2009/09/wind.jpg"/>
          <p:cNvPicPr/>
          <p:nvPr/>
        </p:nvPicPr>
        <p:blipFill>
          <a:blip r:embed="rId1"/>
          <a:stretch/>
        </p:blipFill>
        <p:spPr>
          <a:xfrm>
            <a:off x="4724280" y="1828800"/>
            <a:ext cx="3848400" cy="33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nner is on th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http://2.bp.blogspot.com/_ilO1uu-SYVs/SueqWYQvf9I/AAAAAAAACW0/GzU6J1ZWzZ4/s400/ist2_6373793-cartoon-chef.jpg"/>
          <p:cNvPicPr/>
          <p:nvPr/>
        </p:nvPicPr>
        <p:blipFill>
          <a:blip r:embed="rId1"/>
          <a:stretch/>
        </p:blipFill>
        <p:spPr>
          <a:xfrm>
            <a:off x="2666880" y="2362320"/>
            <a:ext cx="3619800" cy="33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have one of your chi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http://1.bp.blogspot.com/_8M4A38LyBBs/SWEgiMVFeHI/AAAAAAAAFsA/nddKnowFD8w/s400/potato-chips_1126557i.jpg"/>
          <p:cNvPicPr/>
          <p:nvPr/>
        </p:nvPicPr>
        <p:blipFill>
          <a:blip r:embed="rId1"/>
          <a:stretch/>
        </p:blipFill>
        <p:spPr>
          <a:xfrm>
            <a:off x="2743200" y="3200400"/>
            <a:ext cx="380988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it the hand that feed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http://farm1.static.flickr.com/41/100755121_9733e56abe.jpg"/>
          <p:cNvPicPr/>
          <p:nvPr/>
        </p:nvPicPr>
        <p:blipFill>
          <a:blip r:embed="rId1"/>
          <a:stretch/>
        </p:blipFill>
        <p:spPr>
          <a:xfrm>
            <a:off x="2209680" y="2286000"/>
            <a:ext cx="4762800" cy="39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ouds smiled down a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binaryoffice.com/wp-content/uploads/cloud-document-capture.jpg"/>
          <p:cNvPicPr/>
          <p:nvPr/>
        </p:nvPicPr>
        <p:blipFill>
          <a:blip r:embed="rId1"/>
          <a:stretch/>
        </p:blipFill>
        <p:spPr>
          <a:xfrm>
            <a:off x="2209680" y="2590920"/>
            <a:ext cx="4937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ttp://jg.msdpt.k12.in.us/staff/Huckaby/splat.gif"/>
          <p:cNvPicPr/>
          <p:nvPr/>
        </p:nvPicPr>
        <p:blipFill>
          <a:blip r:embed="rId1"/>
          <a:stretch/>
        </p:blipFill>
        <p:spPr>
          <a:xfrm>
            <a:off x="2209680" y="2286000"/>
            <a:ext cx="45910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is as sweet as c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http://www.hasslefreeclipart.com/clipart_food/snacks_dessert/candy_hard.gif"/>
          <p:cNvPicPr/>
          <p:nvPr/>
        </p:nvPicPr>
        <p:blipFill>
          <a:blip r:embed="rId1"/>
          <a:stretch/>
        </p:blipFill>
        <p:spPr>
          <a:xfrm>
            <a:off x="2438280" y="2438280"/>
            <a:ext cx="46767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uld sleep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http://img.uphaa.com/uploads/612/sleep02.jpg"/>
          <p:cNvPicPr/>
          <p:nvPr/>
        </p:nvPicPr>
        <p:blipFill>
          <a:blip r:embed="rId1"/>
          <a:stretch/>
        </p:blipFill>
        <p:spPr>
          <a:xfrm>
            <a:off x="2362320" y="2438280"/>
            <a:ext cx="42861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rove his expensive car into a tree and found out how the Mercedes b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http://www.autospectator.com/cars/files/images/2009-Mercedes-Benz-SLK-Roadster-06.jpg"/>
          <p:cNvPicPr/>
          <p:nvPr/>
        </p:nvPicPr>
        <p:blipFill>
          <a:blip r:embed="rId1"/>
          <a:stretch/>
        </p:blipFill>
        <p:spPr>
          <a:xfrm>
            <a:off x="2286000" y="2819520"/>
            <a:ext cx="47624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00080"/>
                </a:solidFill>
                <a:uFillTx/>
                <a:latin typeface="Arial"/>
              </a:rPr>
              <a:t>Sim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two things using “like” or “a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al twist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ribb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wee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4.bp.blogspot.com/_lMs9w-EpPiM/TH14-6elb6I/AAAAAAAAC-U/jVb7ZJqPG8g/s1600/candy1.jpg"/>
          <p:cNvPicPr/>
          <p:nvPr/>
        </p:nvPicPr>
        <p:blipFill>
          <a:blip r:embed="rId1"/>
          <a:stretch/>
        </p:blipFill>
        <p:spPr>
          <a:xfrm>
            <a:off x="6095880" y="42670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used to have a fear of hurdles, but I got over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http://curtharlow.com/wordpress/wp-content/uploads/2009/04/fail-hurdles.jpg"/>
          <p:cNvPicPr/>
          <p:nvPr/>
        </p:nvPicPr>
        <p:blipFill>
          <a:blip r:embed="rId1"/>
          <a:stretch/>
        </p:blipFill>
        <p:spPr>
          <a:xfrm>
            <a:off x="2895480" y="2590920"/>
            <a:ext cx="326736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heat field was a sea of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http://www.wallpaper4me.com/images/wallpapers/tmp/1302609495_nature_0013_501986.jpeg"/>
          <p:cNvPicPr/>
          <p:nvPr/>
        </p:nvPicPr>
        <p:blipFill>
          <a:blip r:embed="rId1"/>
          <a:stretch/>
        </p:blipFill>
        <p:spPr>
          <a:xfrm>
            <a:off x="2514600" y="2743200"/>
            <a:ext cx="39164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eets called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http://www.clker.com/cliparts/8/5/b/3/1206558153727794007IncessantBlabber_Open_road.svg.hi.png"/>
          <p:cNvPicPr/>
          <p:nvPr/>
        </p:nvPicPr>
        <p:blipFill>
          <a:blip r:embed="rId1"/>
          <a:stretch/>
        </p:blipFill>
        <p:spPr>
          <a:xfrm>
            <a:off x="1600200" y="2590920"/>
            <a:ext cx="5715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http://www.babeled.com/wp-content/uploads/2009/01/onomatopoeia-300x286.jpg"/>
          <p:cNvPicPr/>
          <p:nvPr/>
        </p:nvPicPr>
        <p:blipFill>
          <a:blip r:embed="rId1"/>
          <a:stretch/>
        </p:blipFill>
        <p:spPr>
          <a:xfrm>
            <a:off x="3124080" y="2666880"/>
            <a:ext cx="28576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as dressed to the n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http://www.theharteofmarketing.com/wp/wp-content/uploads/2011/01/Nine.jpeg"/>
          <p:cNvPicPr/>
          <p:nvPr/>
        </p:nvPicPr>
        <p:blipFill>
          <a:blip r:embed="rId1"/>
          <a:stretch/>
        </p:blipFill>
        <p:spPr>
          <a:xfrm>
            <a:off x="3200400" y="2666880"/>
            <a:ext cx="23353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arly bird catches the w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http://www.how-to-draw-funny-cartoons.com/image-files/cartoon-worm-7.gif"/>
          <p:cNvPicPr/>
          <p:nvPr/>
        </p:nvPicPr>
        <p:blipFill>
          <a:blip r:embed="rId1"/>
          <a:stretch/>
        </p:blipFill>
        <p:spPr>
          <a:xfrm>
            <a:off x="2971800" y="243828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http://www.stupidpicturesvideosandmusic.com/wp-content/uploads/2009/12/baby-on-toilet.jpg"/>
          <p:cNvPicPr/>
          <p:nvPr/>
        </p:nvPicPr>
        <p:blipFill>
          <a:blip r:embed="rId1"/>
          <a:stretch/>
        </p:blipFill>
        <p:spPr>
          <a:xfrm>
            <a:off x="3048120" y="2209680"/>
            <a:ext cx="284796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face is killing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http://www.hotindienews.com/wp-content/uploads/2011/01/justin-bieber-300.jpg"/>
          <p:cNvPicPr/>
          <p:nvPr/>
        </p:nvPicPr>
        <p:blipFill>
          <a:blip r:embed="rId1"/>
          <a:stretch/>
        </p:blipFill>
        <p:spPr>
          <a:xfrm>
            <a:off x="2971800" y="23623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as as white as a g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http://us.123rf.com/400wm/400/400/Hallgerd/Hallgerd0612/Hallgerd061200308/665179-little-funny-ghost.jpg"/>
          <p:cNvPicPr/>
          <p:nvPr/>
        </p:nvPicPr>
        <p:blipFill>
          <a:blip r:embed="rId1"/>
          <a:stretch/>
        </p:blipFill>
        <p:spPr>
          <a:xfrm>
            <a:off x="2590920" y="2895480"/>
            <a:ext cx="38098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has a skeleton in her clo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http://americaexplained.files.wordpress.com/2011/01/skeleton_in_closet_74214583.jpg"/>
          <p:cNvPicPr/>
          <p:nvPr/>
        </p:nvPicPr>
        <p:blipFill>
          <a:blip r:embed="rId1"/>
          <a:stretch/>
        </p:blipFill>
        <p:spPr>
          <a:xfrm>
            <a:off x="2438280" y="25909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mporta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“like” or “as” doesn’t make a sim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omparis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ust b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t a Simi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ik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pizz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imi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moon i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ik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a piz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www.ovcart.com/images/inventory/18065.11163.zoom.jpg"/>
          <p:cNvPicPr/>
          <p:nvPr/>
        </p:nvPicPr>
        <p:blipFill>
          <a:blip r:embed="rId1"/>
          <a:stretch/>
        </p:blipFill>
        <p:spPr>
          <a:xfrm>
            <a:off x="6705720" y="3809880"/>
            <a:ext cx="2041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Metap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hings are compar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o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worl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heart is st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3.bp.blogspot.com/_vC_NYnaKRRs/TFJFAvHUgSI/AAAAAAAABIc/Vw5vE_emJT8/s1600/Heart+of+Stone.jpg"/>
          <p:cNvPicPr/>
          <p:nvPr/>
        </p:nvPicPr>
        <p:blipFill>
          <a:blip r:embed="rId1"/>
          <a:stretch/>
        </p:blipFill>
        <p:spPr>
          <a:xfrm>
            <a:off x="5257800" y="3733920"/>
            <a:ext cx="33098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Person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ing human traits to objects 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nlight dan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on the lake shiv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eets are call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http://3.bp.blogspot.com/_Pk4-znZMoB0/SOKDPE72LlI/AAAAAAAAAmY/0KyeYj4P47M/s400/personification.jpg"/>
          <p:cNvPicPr/>
          <p:nvPr/>
        </p:nvPicPr>
        <p:blipFill>
          <a:blip r:embed="rId1"/>
          <a:stretch/>
        </p:blipFill>
        <p:spPr>
          <a:xfrm>
            <a:off x="5943600" y="2590920"/>
            <a:ext cx="254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6633"/>
                </a:solidFill>
                <a:uFillTx/>
                <a:latin typeface="Arial"/>
              </a:rPr>
              <a:t>Hyperb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ggerating to show strong feeling or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love you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ouse is a million miles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’d kill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ttp://exurbanpedestrian.files.wordpress.com/2008/07/captainhyperbole2.jpg"/>
          <p:cNvPicPr/>
          <p:nvPr/>
        </p:nvPicPr>
        <p:blipFill>
          <a:blip r:embed="rId1"/>
          <a:stretch/>
        </p:blipFill>
        <p:spPr>
          <a:xfrm>
            <a:off x="6248520" y="2743200"/>
            <a:ext cx="2352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8000"/>
                </a:solidFill>
                <a:uFillTx/>
                <a:latin typeface="Arial"/>
              </a:rPr>
              <a:t>Under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 with less strength than exp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pposite of hyperb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ll be there in one sec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n’t hurt a bi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http://images.cheezburger.com/completestore/2009/8/8/128942267675850748.jpg"/>
          <p:cNvPicPr/>
          <p:nvPr/>
        </p:nvPicPr>
        <p:blipFill>
          <a:blip r:embed="rId1"/>
          <a:stretch/>
        </p:blipFill>
        <p:spPr>
          <a:xfrm>
            <a:off x="4952880" y="3886200"/>
            <a:ext cx="35816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nomatopoe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d that “makes” a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wiw.org/~jess/wp-content/uploads/2007/07/splat1.gif"/>
          <p:cNvPicPr/>
          <p:nvPr/>
        </p:nvPicPr>
        <p:blipFill>
          <a:blip r:embed="rId1"/>
          <a:stretch/>
        </p:blipFill>
        <p:spPr>
          <a:xfrm>
            <a:off x="3352680" y="2286000"/>
            <a:ext cx="4686480" cy="3305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digitalhooligans.com/blog/uploaded_images/serie_kapow-728628.jpg"/>
          <p:cNvPicPr/>
          <p:nvPr/>
        </p:nvPicPr>
        <p:blipFill>
          <a:blip r:embed="rId2"/>
          <a:stretch/>
        </p:blipFill>
        <p:spPr>
          <a:xfrm>
            <a:off x="1981080" y="4876920"/>
            <a:ext cx="2266920" cy="1662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withfriendship.com/images/b/6643/Onomatopoeia-pic.jpg"/>
          <p:cNvPicPr/>
          <p:nvPr/>
        </p:nvPicPr>
        <p:blipFill>
          <a:blip r:embed="rId3"/>
          <a:stretch/>
        </p:blipFill>
        <p:spPr>
          <a:xfrm>
            <a:off x="6629400" y="114300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http://t1.gstatic.com/images?q=tbn:ANd9GcRmYvOjUVaaKnx9h011meHQq7fedjvYVb3tv07eXvyoFKswLm6HWQ&amp;t=1"/>
          <p:cNvPicPr/>
          <p:nvPr/>
        </p:nvPicPr>
        <p:blipFill>
          <a:blip r:embed="rId4"/>
          <a:stretch/>
        </p:blipFill>
        <p:spPr>
          <a:xfrm>
            <a:off x="6934320" y="5257800"/>
            <a:ext cx="1638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2:39:48Z</dcterms:created>
  <dc:creator>D</dc:creator>
  <dc:description/>
  <dc:language>en-US</dc:language>
  <cp:lastModifiedBy>Computer Tech</cp:lastModifiedBy>
  <dcterms:modified xsi:type="dcterms:W3CDTF">2013-03-13T16:27:53Z</dcterms:modified>
  <cp:revision>18</cp:revision>
  <dc:subject/>
  <dc:title>Figurative Langu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